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A655D-4CC1-4033-BFF9-7BEE037799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306F-10CA-44D4-9984-3B7E6C6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C6BC-AFD4-4525-B102-8226FC46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E785-F7C5-4FAC-BC6D-59E05F0784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22C6-F747-46FA-ABC6-DA1DE7AD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3BD8-1D7B-418F-8225-8F91D469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876C-E3A1-4156-B871-977A561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4A513-F79F-48E1-AEEF-6C1E2D9B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FD7F-D189-44B4-BA0D-A8354141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4DB96-025F-4310-A503-321306D9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2944-C1C1-4770-909B-01ECFA85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B0AF-D35F-4BEE-9C15-014A5832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3460-BD24-4C9C-9A2E-E7271EECFA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907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六章 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食管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，患者出现了胸闷、气急、心悸症状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练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呼吸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管插管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深呼吸，有效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多、咳痰无力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需持续行胃肠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胃肠减压管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胃肠减压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减压管一般应保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情绪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肺部并发症的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明，相关因素有生活习惯、饮食因素、遗传因素、疾病因素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主要特征性症状为进食哽咽感、异物感、胸骨后烧灼样、针刺样或牵拉摩擦样疼痛。中晚期主要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辅以化疗、放疗等综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应关注患者的心理反应，做好呼吸道与肠道准备；术后注意观察伤口及引流情况，及时发现出血、吻合口瘘、乳糜胸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食管癌术后常见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不同类型食管癌患者的临床表现和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食管癌术后容易发生吻合口瘘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消化系统常见的恶性肿瘤之一。据估计全世界每年大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未见任何阳性体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4.0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,Hb 8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镜检查：食管中段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长管腔狭窄，黏膜中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报告：鳞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Ⅱ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物停滞感或异物感、哽噎感、胸骨后灼烧样、针刺样或牵拉摩擦样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及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钡餐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食管纤维光学内窥镜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核素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食管癌的首选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内镜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免疫治疗及中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六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肺不张、肺炎、出血、吻合口瘘、乳糜胸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12:11:12Z</dcterms:modified>
  <cp:revision>88</cp:revision>
  <dc:subject/>
  <dc:title>内科护理学</dc:title>
</cp:coreProperties>
</file>